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A015-2732-4B10-8A7F-865CE024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31F-779F-4406-AEE7-FA8C0527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545-2708-40D8-BAE5-7A0B60C7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04C-E25E-4F5B-A957-45BC3933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9041-B316-444F-BD32-FB8A4F8E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11DE-BCE6-4F29-A509-289D58BB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914C-9A6A-4DB9-A99C-99757ACF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D2F2-A05E-4FE5-9009-C0064D9F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8106-D746-478D-B0F1-44FCE861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F7C4-330C-4073-A76D-BC4E4053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F9F0-D18A-4CD9-BD01-271AE448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1FB-6417-404B-B13E-BFEC8818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3C0A-1A70-4F3D-9E41-8EFCE1E6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180A-64B0-4BCC-8A79-56F6448F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8B76-9D55-480B-848C-537FDF82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77C5-C812-44BD-BBCD-7E1F5D90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8438-F1EF-412F-92C9-DDAF447E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E877-7856-46EB-9C93-438F5622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1C9-0AF7-4A7C-B26C-06877898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D093-633A-49BD-8B07-0AD1348B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7B8-24C8-48DF-8A2B-E67CD488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D71-83EB-4BB8-A6E9-432988EE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EE3-7978-40F8-9CB0-FC98D3BF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7836-EF6E-4D0E-9354-42D4D0F9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F5AC-463F-4AAA-97AA-8BE6E4B83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plant"/>
          <p:cNvPicPr/>
          <p:nvPr/>
        </p:nvPicPr>
        <p:blipFill>
          <a:blip r:embed="rId3"/>
          <a:stretch/>
        </p:blipFill>
        <p:spPr>
          <a:xfrm>
            <a:off x="5257800" y="2286000"/>
            <a:ext cx="4240080" cy="474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003F-34B9-444F-972C-246F237B7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caert.com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caert.com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6933960" cy="1828800"/>
          </a:xfrm>
          <a:prstGeom prst="rect">
            <a:avLst/>
          </a:prstGeom>
          <a:noFill/>
          <a:ln w="0">
            <a:noFill/>
          </a:ln>
          <a:effectLst>
            <a:outerShdw dist="29795" dir="389898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derstanding Stem Anatomy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4" descr="cartlogo_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086520"/>
            <a:ext cx="6667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an we use the internal structure of a tree stem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ge of a tree can be determined by counting annual growth ring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pid growth (spring and early summer) = large cells with thin walls = large in diame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low growth (mid-to-late summer) = smaller cells and have thicker wall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193"/>
          <p:cNvPicPr/>
          <p:nvPr/>
        </p:nvPicPr>
        <p:blipFill>
          <a:blip r:embed="rId1"/>
          <a:stretch/>
        </p:blipFill>
        <p:spPr>
          <a:xfrm rot="5400000">
            <a:off x="3342600" y="3362040"/>
            <a:ext cx="26863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some different kinds of specialized stem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Bulb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y short flattened stem that has several fleshy leaves attached to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nd beneath the soi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= on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Cor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pherical 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ire structure is 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= gladio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6705720" y="1295280"/>
            <a:ext cx="2361960" cy="4648320"/>
            <a:chOff x="6705720" y="1295280"/>
            <a:chExt cx="2361960" cy="4648320"/>
          </a:xfrm>
        </p:grpSpPr>
        <p:pic>
          <p:nvPicPr>
            <p:cNvPr id="121" name="Picture 5" descr="194"/>
            <p:cNvPicPr/>
            <p:nvPr/>
          </p:nvPicPr>
          <p:blipFill>
            <a:blip r:embed="rId1"/>
            <a:stretch/>
          </p:blipFill>
          <p:spPr>
            <a:xfrm>
              <a:off x="7315200" y="1295280"/>
              <a:ext cx="175248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6" descr="195"/>
            <p:cNvPicPr/>
            <p:nvPr/>
          </p:nvPicPr>
          <p:blipFill>
            <a:blip r:embed="rId2"/>
            <a:stretch/>
          </p:blipFill>
          <p:spPr>
            <a:xfrm>
              <a:off x="6705720" y="3657600"/>
              <a:ext cx="194292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some different kinds of specialized stem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960" y="1294920"/>
            <a:ext cx="6019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Rhizo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hick underground stem that lies horizont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= Hostas and Mother-in-law’s Tong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ub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wollen tip that stores f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=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rish potat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Stol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horizontal stem that lies above the ground that are involved in the spreading of the pl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= Strawber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7" descr="197"/>
          <p:cNvPicPr/>
          <p:nvPr/>
        </p:nvPicPr>
        <p:blipFill>
          <a:blip r:embed="rId1"/>
          <a:stretch/>
        </p:blipFill>
        <p:spPr>
          <a:xfrm>
            <a:off x="6370560" y="5141880"/>
            <a:ext cx="2468520" cy="1639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98"/>
          <p:cNvPicPr/>
          <p:nvPr/>
        </p:nvPicPr>
        <p:blipFill>
          <a:blip r:embed="rId2"/>
          <a:stretch/>
        </p:blipFill>
        <p:spPr>
          <a:xfrm rot="5400000">
            <a:off x="5898960" y="2546280"/>
            <a:ext cx="2057400" cy="3060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196"/>
          <p:cNvPicPr/>
          <p:nvPr/>
        </p:nvPicPr>
        <p:blipFill>
          <a:blip r:embed="rId3"/>
          <a:stretch/>
        </p:blipFill>
        <p:spPr>
          <a:xfrm>
            <a:off x="6141960" y="1459080"/>
            <a:ext cx="2844720" cy="18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3048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some different kinds of specialized stem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3124080" y="0"/>
            <a:ext cx="58104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cartlogo_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086520"/>
            <a:ext cx="666720" cy="771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228600" y="76320"/>
            <a:ext cx="739152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scribe the functions of a 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gnize the external structures of a 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alyze the internal structures of a 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stinguish between the different types of specialized st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functions of a stem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ble for the size and shape of a pl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de of different mater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rbaceous or soft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13" descr="186"/>
          <p:cNvPicPr/>
          <p:nvPr/>
        </p:nvPicPr>
        <p:blipFill>
          <a:blip r:embed="rId1"/>
          <a:stretch/>
        </p:blipFill>
        <p:spPr>
          <a:xfrm>
            <a:off x="5029200" y="1828800"/>
            <a:ext cx="2654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functions of a stem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the leav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ve water, minerals, and food throughout the pl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rans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 produce food through photosynthe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food that has been manufactu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up 7"/>
          <p:cNvGrpSpPr/>
          <p:nvPr/>
        </p:nvGrpSpPr>
        <p:grpSpPr>
          <a:xfrm>
            <a:off x="2209680" y="4648320"/>
            <a:ext cx="3429000" cy="2209680"/>
            <a:chOff x="2209680" y="4648320"/>
            <a:chExt cx="3429000" cy="2209680"/>
          </a:xfrm>
        </p:grpSpPr>
        <p:pic>
          <p:nvPicPr>
            <p:cNvPr id="93" name="Picture 5" descr="187"/>
            <p:cNvPicPr/>
            <p:nvPr/>
          </p:nvPicPr>
          <p:blipFill>
            <a:blip r:embed="rId1"/>
            <a:stretch/>
          </p:blipFill>
          <p:spPr>
            <a:xfrm>
              <a:off x="2209680" y="4648320"/>
              <a:ext cx="147348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6" descr="188"/>
            <p:cNvPicPr/>
            <p:nvPr/>
          </p:nvPicPr>
          <p:blipFill>
            <a:blip r:embed="rId2"/>
            <a:stretch/>
          </p:blipFill>
          <p:spPr>
            <a:xfrm>
              <a:off x="3962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some of the structures on the outside of a stem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6324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erminal bu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wing point at the tip of the 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Lateral b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de bud on the st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re the leaf is attached to the st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ternod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area between lea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Leaf sc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 where leaf falls off of the 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Bud scale sc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 left behind from last year’s grow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Lentic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mall spots on the stem that allow exchange gases with its enviro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6696000" y="1447920"/>
            <a:ext cx="2448000" cy="4505040"/>
            <a:chOff x="6696000" y="1447920"/>
            <a:chExt cx="2448000" cy="4505040"/>
          </a:xfrm>
        </p:grpSpPr>
        <p:pic>
          <p:nvPicPr>
            <p:cNvPr id="98" name="Picture 5" descr="4"/>
            <p:cNvPicPr/>
            <p:nvPr/>
          </p:nvPicPr>
          <p:blipFill>
            <a:blip r:embed="rId1"/>
            <a:stretch/>
          </p:blipFill>
          <p:spPr>
            <a:xfrm>
              <a:off x="6781680" y="1447920"/>
              <a:ext cx="2116080" cy="2133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Group 8"/>
            <p:cNvGrpSpPr/>
            <p:nvPr/>
          </p:nvGrpSpPr>
          <p:grpSpPr>
            <a:xfrm>
              <a:off x="6696000" y="3657600"/>
              <a:ext cx="2448000" cy="2295360"/>
              <a:chOff x="6696000" y="3657600"/>
              <a:chExt cx="2448000" cy="2295360"/>
            </a:xfrm>
          </p:grpSpPr>
          <p:pic>
            <p:nvPicPr>
              <p:cNvPr id="100" name="Picture 6" descr="190"/>
              <p:cNvPicPr/>
              <p:nvPr/>
            </p:nvPicPr>
            <p:blipFill>
              <a:blip r:embed="rId2"/>
              <a:stretch/>
            </p:blipFill>
            <p:spPr>
              <a:xfrm>
                <a:off x="6696000" y="3657600"/>
                <a:ext cx="2448000" cy="22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Rectangle 7"/>
              <p:cNvSpPr/>
              <p:nvPr/>
            </p:nvSpPr>
            <p:spPr>
              <a:xfrm>
                <a:off x="6705720" y="5791320"/>
                <a:ext cx="243828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312444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some of the structures on the outside of a stem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3295800" y="-76320"/>
            <a:ext cx="584820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some of the structures inside a stem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ways interior stem tissue is organi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attered bund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nd in monoco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nd in dico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523880" y="4114800"/>
            <a:ext cx="59245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some of the structures inside a stem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6934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important internal t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y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s the water and minerals throughout the pl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nd closer to the center of the 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lo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s food that is produced in the leaf to the rest of the pl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nd toward the outside of the 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mb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ible for the production of new xylem and phlo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es growth in girth of the ste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nd between the xylem and the phlo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7162920" y="1219320"/>
            <a:ext cx="1725480" cy="4483080"/>
            <a:chOff x="7162920" y="1219320"/>
            <a:chExt cx="1725480" cy="4483080"/>
          </a:xfrm>
        </p:grpSpPr>
        <p:pic>
          <p:nvPicPr>
            <p:cNvPr id="110" name="Picture 5" descr="5"/>
            <p:cNvPicPr/>
            <p:nvPr/>
          </p:nvPicPr>
          <p:blipFill>
            <a:blip r:embed="rId1"/>
            <a:stretch/>
          </p:blipFill>
          <p:spPr>
            <a:xfrm>
              <a:off x="7391520" y="1219320"/>
              <a:ext cx="1371600" cy="22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6" descr="191"/>
            <p:cNvPicPr/>
            <p:nvPr/>
          </p:nvPicPr>
          <p:blipFill>
            <a:blip r:embed="rId2"/>
            <a:stretch/>
          </p:blipFill>
          <p:spPr>
            <a:xfrm>
              <a:off x="7162920" y="3962520"/>
              <a:ext cx="172548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an we use the internal structure of a tree stem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Heartwoo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rker wood to the center of the t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strength and no longer function in conducting 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Sapwoo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ghter wood circling t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rtwoo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ly conducts wat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dissolved miner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192"/>
          <p:cNvPicPr/>
          <p:nvPr/>
        </p:nvPicPr>
        <p:blipFill>
          <a:blip r:embed="rId1"/>
          <a:stretch/>
        </p:blipFill>
        <p:spPr>
          <a:xfrm>
            <a:off x="5029200" y="3276720"/>
            <a:ext cx="4102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8:38:17Z</dcterms:created>
  <dc:creator>Lindi Kocher</dc:creator>
  <dc:description/>
  <cp:keywords/>
  <dc:language>en-US</dc:language>
  <cp:lastModifiedBy>Alicia Burge</cp:lastModifiedBy>
  <dcterms:modified xsi:type="dcterms:W3CDTF">2011-03-06T19:52:51Z</dcterms:modified>
  <cp:revision>44</cp:revision>
  <dc:subject/>
  <dc:title>Horticulture Sc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21033</vt:lpwstr>
  </property>
</Properties>
</file>